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69A-3F33-4DC6-B621-793096DA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8FA-AE34-4A52-BFC4-5D123BD4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7FD-C643-4EE3-9570-D202D428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355-1908-4A2A-99D3-31A15BAC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06F-95AD-4FE3-BEB9-24C602AD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E6D-F851-4667-927B-C6ED6214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F3C-502A-4EC8-B780-EB91562E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41A-38EA-42FA-A40A-A273FC92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796-A780-40D6-B963-3D2D5B90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BCD-B4E8-4E75-914F-D9278A4C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736-7C82-4F22-898B-01357341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279-F2C1-4250-AED1-18D62696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C707-5200-48DB-BFD5-E3E0FB6043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220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ANK  100TH            WILLOWBANK  100TH.              WILLOWBANK  150TH   WILLOWBANK  100TH  AT  DOWANHILL           WOODEND                                    WOODEND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81240" y="-1116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1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Yarrow 2"/>
          <p:cNvPicPr/>
          <p:nvPr/>
        </p:nvPicPr>
        <p:blipFill>
          <a:blip r:embed="rId1"/>
          <a:stretch/>
        </p:blipFill>
        <p:spPr>
          <a:xfrm>
            <a:off x="7761240" y="2349360"/>
            <a:ext cx="144468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Yarrow 3"/>
          <p:cNvPicPr/>
          <p:nvPr/>
        </p:nvPicPr>
        <p:blipFill>
          <a:blip r:embed="rId2"/>
          <a:stretch/>
        </p:blipFill>
        <p:spPr>
          <a:xfrm>
            <a:off x="128520" y="4149720"/>
            <a:ext cx="144468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Yarrow 50th"/>
          <p:cNvPicPr/>
          <p:nvPr/>
        </p:nvPicPr>
        <p:blipFill>
          <a:blip r:embed="rId3"/>
          <a:stretch/>
        </p:blipFill>
        <p:spPr>
          <a:xfrm>
            <a:off x="1496880" y="3860640"/>
            <a:ext cx="1646280" cy="174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Woodend Millennium"/>
          <p:cNvPicPr/>
          <p:nvPr/>
        </p:nvPicPr>
        <p:blipFill>
          <a:blip r:embed="rId4"/>
          <a:stretch/>
        </p:blipFill>
        <p:spPr>
          <a:xfrm>
            <a:off x="4592520" y="2565360"/>
            <a:ext cx="1279800" cy="117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Woodend 75th"/>
          <p:cNvPicPr/>
          <p:nvPr/>
        </p:nvPicPr>
        <p:blipFill>
          <a:blip r:embed="rId5"/>
          <a:stretch/>
        </p:blipFill>
        <p:spPr>
          <a:xfrm>
            <a:off x="1639800" y="2565360"/>
            <a:ext cx="127944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Yarrow 1"/>
          <p:cNvPicPr/>
          <p:nvPr/>
        </p:nvPicPr>
        <p:blipFill>
          <a:blip r:embed="rId6"/>
          <a:stretch/>
        </p:blipFill>
        <p:spPr>
          <a:xfrm>
            <a:off x="6176880" y="2708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Woodend 3"/>
          <p:cNvPicPr/>
          <p:nvPr/>
        </p:nvPicPr>
        <p:blipFill>
          <a:blip r:embed="rId7"/>
          <a:stretch/>
        </p:blipFill>
        <p:spPr>
          <a:xfrm>
            <a:off x="344520" y="2708280"/>
            <a:ext cx="914400" cy="108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3716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ODEND                          WOODEND  75TH                   WOODEND  100TH                 WOODEND  MILLENNIUM                      YARROW                                             YARR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Woodend 1"/>
          <p:cNvPicPr/>
          <p:nvPr/>
        </p:nvPicPr>
        <p:blipFill>
          <a:blip r:embed="rId8"/>
          <a:stretch/>
        </p:blipFill>
        <p:spPr>
          <a:xfrm>
            <a:off x="6321600" y="112536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oodend 2"/>
          <p:cNvPicPr/>
          <p:nvPr/>
        </p:nvPicPr>
        <p:blipFill>
          <a:blip r:embed="rId9"/>
          <a:stretch/>
        </p:blipFill>
        <p:spPr>
          <a:xfrm>
            <a:off x="7977240" y="1052640"/>
            <a:ext cx="95076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Woodend 100th.jpg"/>
          <p:cNvPicPr/>
          <p:nvPr/>
        </p:nvPicPr>
        <p:blipFill>
          <a:blip r:embed="rId10"/>
          <a:stretch/>
        </p:blipFill>
        <p:spPr>
          <a:xfrm>
            <a:off x="3081240" y="2637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Willowbank 100th1.JPG"/>
          <p:cNvPicPr/>
          <p:nvPr/>
        </p:nvPicPr>
        <p:blipFill>
          <a:blip r:embed="rId11"/>
          <a:stretch/>
        </p:blipFill>
        <p:spPr>
          <a:xfrm>
            <a:off x="272880" y="907920"/>
            <a:ext cx="1262160" cy="132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Willowbank 100th2.JPG"/>
          <p:cNvPicPr/>
          <p:nvPr/>
        </p:nvPicPr>
        <p:blipFill>
          <a:blip r:embed="rId12"/>
          <a:stretch/>
        </p:blipFill>
        <p:spPr>
          <a:xfrm>
            <a:off x="1639800" y="907920"/>
            <a:ext cx="13176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Willowbank 150th.JPG"/>
          <p:cNvPicPr/>
          <p:nvPr/>
        </p:nvPicPr>
        <p:blipFill>
          <a:blip r:embed="rId13"/>
          <a:stretch/>
        </p:blipFill>
        <p:spPr>
          <a:xfrm>
            <a:off x="3152880" y="90792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Willowbank 3.JPG"/>
          <p:cNvPicPr/>
          <p:nvPr/>
        </p:nvPicPr>
        <p:blipFill>
          <a:blip r:embed="rId14"/>
          <a:stretch/>
        </p:blipFill>
        <p:spPr>
          <a:xfrm>
            <a:off x="4521240" y="-100080"/>
            <a:ext cx="1498680" cy="2363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551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ARROW                               YARROW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15:19:39Z</dcterms:created>
  <dc:creator>HP authorized customer</dc:creator>
  <dc:description/>
  <dc:language>en-US</dc:language>
  <cp:lastModifiedBy>John</cp:lastModifiedBy>
  <dcterms:modified xsi:type="dcterms:W3CDTF">2011-11-16T19:46:31Z</dcterms:modified>
  <cp:revision>10</cp:revision>
  <dc:subject/>
  <dc:title>Slide 1</dc:title>
</cp:coreProperties>
</file>